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D8A-F56E-4C89-8257-B10B9340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1E1-551E-4F10-A5D5-7F454C1D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0E5B6-2100-4BB8-84C2-BFBC4880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F27F8-00D7-4440-BC30-C2C5D9D4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B8DBC-E9F8-479A-9B0E-BDBD6151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7319D-38E7-4905-B90E-2742CF99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2B85C-5029-4821-96C9-7FD41F44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78C2F-D9D4-4D65-8B27-8649841A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77055-0FF0-4590-B5A0-9A98BF84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804A7-534B-422C-8980-254DD81E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10AD9-A431-45BF-A05E-38B7ED94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75239-697F-4ED1-9B6B-655C9E74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D5D-D566-41DB-9B2A-FCDB6621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5869A-8E8E-49D8-8BE6-C71EC5DF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32974-10BA-4719-BDB9-C1DB5E88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BF9CB-EEFD-40CF-8A57-77B1C0B9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534AE-C154-4FF4-9BBA-976A64F8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B5E54-6B31-4E66-8E5F-6987EC54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D0919-17AD-44E6-A8D7-63358A8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E8D9D-4953-4AB7-822F-5C1BC593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E1069-25DC-4C46-BD2D-FDB2B704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A7A4A-0644-46F5-8568-A1426440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EC048-1E39-4B1E-9D83-15B7B567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ADE7-F817-439E-981E-25DC75E5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01F33-8496-4F18-B8DF-BA4551D3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351CB-BADE-49CA-BC87-DA2E974D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8857B-9479-4FC1-815C-E22B4B1C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7D907-5811-46A9-9FD5-5671E61E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EE423-B0C2-40F2-ADDD-BE3B269F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17E71-087A-4A93-9464-C3EF36C3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8221B-E9F1-4BE0-871E-32ED4A00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959FB-D89E-4A5B-9CAE-AA679870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1190F-712E-4D99-B7CB-378C0920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5C2DA-2F5C-4B47-9B9D-B9F3D0A0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BBEC-030F-41E0-9D34-23D3441D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5738D-7D8F-40C2-A23B-71E3C74F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CA414-4A6A-41DF-8A7D-81D2F2FB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33D4C-1122-44B1-AE2E-D8C61C80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F7034-3B96-4C93-80C1-5CC34EA9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5BF26-5EED-4207-8E17-FBCC9716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23DA8-3E1D-42BF-8D57-D881BCD1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983A1-E65D-48C1-81CB-63C897D0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50F47-38ED-4B2A-8124-45475F20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5DA38-B8DE-4BF0-8DFD-1EE0B1EC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29A33-C775-4D92-8F46-8C830E07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DEAD-33D6-4F9A-8DAC-B49D3B61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D7088-10F9-4FD9-B761-F0403B4E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4256D-9125-4634-A81B-B221E5E5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E69BE-7777-42A0-80D8-E42B8975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70C6A-F170-41FA-BDB9-6725DC2F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C3CB2-078F-4218-BEA7-F78B5B60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2FBF0F-2968-4B70-9A6E-AD76F4F1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2AF5A2-06B9-4E03-B747-64E02072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6848C2-CE3A-49C4-B262-214D61A0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410994-E9FF-4D24-B49E-703EC895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3AD77F-F4E1-4D4B-B057-08C32052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E930-29EE-4023-BAA2-BC60F3B5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71A38E-7E08-4AFF-ABAC-375A167A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8EA454-DC0C-464C-B994-EC2F2B04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8BCF56-0DB5-42F5-9815-F593451D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A7E32B-DAE9-43A9-989C-56F6F4B3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4F8981-3CBB-4556-BB7E-4B382428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80A2AD-B1C9-423C-B800-09108D8A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4ACFB1-F18D-42CD-AD05-FBE59C08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934D6F-13FE-405C-8DE6-CE35E1D2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0AF092-C74F-44B5-B031-E7BE710B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EF330D-6386-4CCB-85DA-CAA60158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EFFE-7DC4-4AAD-BCEE-4E22A7C1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B6EE8D-BBE3-4801-B9A3-12B69B79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A7AC2A-DA3E-4276-8004-E02AA6E2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4B6C6E-D9FF-415B-B62F-8FB4806C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34201C-BD2E-4AB6-A8E6-75C642BA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FA0F4A-D5C0-4ADF-871B-C2E369D3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C71AE5-DA7B-46D8-BCA0-6BF11132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5A530A-B9F2-4C7C-B711-F2F496C7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53807B-6BBF-47C0-B36B-398ABEF8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25A70C-4715-40D3-840F-71834E52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DA70E3-18A3-401B-B907-570E47C1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4284-E17F-470E-830F-3738BA57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24E9B-79E9-4577-92EB-093357CC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FF134-6AE7-4468-9FD7-8E6CB111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2E56A-9588-48F0-AD3F-BF397086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61390-AD93-4687-ABEA-5B27591D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4A6B75-187D-45E9-BB5F-88AA8D67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B6DF8-0881-4D00-8EB7-1087C29E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F6A0E-DDCD-4840-834E-93503C6A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9329A-51A9-442F-88FA-9242E5C4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3F9B7-77F4-4DEE-AE57-2214A28B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26A6F-E408-4ADB-BB97-AA371FE4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A801-455B-4F96-A3A4-4EF1B0F2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A0A95-AE2F-4C55-A866-9382E672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FB23-D244-4FB4-8432-632F6BFE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E07-737B-4E15-9A07-B29B2438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D73F-7CAB-4D0B-8FF5-05BB2B47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5D30-B0EE-4CE3-B8E5-4367737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9218-C070-4C32-AAA1-94686FF2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3F33-4039-4522-83C9-652A3F4B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1EC7-31F4-498B-AF0C-193DF576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CC09-3DCD-43A7-9D42-8C4CF3AD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487EB-8F11-4446-9499-7BA70958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04A1-E47C-44BD-8B5C-B69E0EF9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B2A8-36ED-4AA6-9A54-ADA34200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FD1FF-288E-489E-B10A-8C5F46DD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FE6-99BB-4136-8E6C-3DF418AB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099F-EDBF-49BA-9357-C2FF5512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0D50-11BF-48C4-91BC-6C745928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15B2-5377-42A2-838B-6B3ACE41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D354-1656-44EC-ACC1-64A172DC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E65C-AC25-4C37-872B-A599031C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32E5-9B95-44A2-9ACC-716AC689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E115-6D85-4B81-863A-A953B485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0B0B4-8AAD-411E-9ACE-C2D04FF4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1588E-9157-4D4D-904D-E70872A1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AE538-6C41-4910-B849-560C7D1A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FF0-4DDC-4753-9B1E-AEE3407A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7EC17-AA97-40B2-9215-A5B73FBC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741EE-D6E5-4189-9DE9-30D6E7C0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C85C3-8943-4C6A-B2E7-C2F24FA8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F969E-9B1F-4019-8ABA-676F4CFF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06CE6-F04C-4863-A00F-E584A46A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04947-3F22-4A84-ABA8-9074824F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76FB-5F58-4621-A185-199E92CF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F358-1DC8-41E9-80F3-1CDDD0A1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6D08-60FB-4AD5-ACC0-8DF87F7C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D02C3-203A-47BB-9A1C-0810D645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F86-3A58-41DC-8DBE-3F564ED4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32B9E-B9CB-4B3D-BF4E-675639BA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FFB61-6528-4827-AA02-DE1A2E12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7A09D-DA69-4B8A-928E-3C6931C2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C0B7D-3578-453A-87DB-8023B131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F0F5B-BE28-4529-B666-500691AB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C3B02-A8AA-416B-8AC7-DA446DAA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633AF-7659-4F5F-AF0A-17B57FEC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56A3C-3361-4F55-99A8-EBE0DB8C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F1D72-CA2E-4C75-BD3A-4260D084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0F4A-5FFC-4EC3-AC19-F23DC582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3C9-76F8-4BC2-867B-7D2A683D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EF1AF-87A7-4121-B006-1834CE38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0E4F3-4CB6-4E9A-8F03-3B2A5A96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06D33-0AE4-4CDD-B2AA-37B7BB4F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A8F67-E558-4BBD-BBF7-0A3B5EAD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BA8A1-4F05-4DD0-A9E2-ADD3A6F7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8B33C-192E-44F9-A432-7D68D0D7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3E514-A834-4B13-875D-98815C3F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97CA9-CAD6-438C-8822-5E09B617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1CF97-3282-44BD-90C8-04419A98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5008C-A069-4D6A-BD6C-FAD69326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A83-4FF6-49F2-8B30-029DCBF4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DBC13-CE2B-404D-B822-7434B13D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CEFC4-EF9A-4CE7-8809-9CC143B3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6C673-8D42-4580-9AD1-417C949B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3633D-CF06-4709-8D30-6F728D35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ABB81-E222-4B67-8F63-74E98E0A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9BAB8-EB56-4397-9552-DDA71D2A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DA6B0-0023-495E-A234-3308527F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84C3A-E498-49CE-96ED-D908E5F3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20D9E-0E14-4709-9A29-A10C7AC9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02AFD-CBBB-443E-B24E-C588B254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861-79E1-486D-A39F-744887C4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92F18-37C8-4C84-93D0-CB18B518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6DD07-D0B2-4151-AFF9-F60F5AEC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F6FCB-A6D4-4D91-85F1-5BE75D58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2CC06-AABD-4BC4-B83D-6EF0B7A0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93BB2-A0F1-4A6F-A5FA-2336DDA9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7E561D-82B0-4D7F-B78D-DED7167A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9A485A-C512-428D-A2B3-E5C04DAA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C4B167-7342-4788-BA95-C2AF2CBE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B1EA94-9133-46AE-87BC-C9406B4C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DE0A77-E5A1-49FF-8FF5-6E3B3508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528-4BBC-437C-BB2B-1C4F7F56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2E500C-2636-493D-B4AC-F7A622E9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5FF87C-A026-4040-98D2-12C1B75B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896ADA-F760-4CFD-B14A-6909072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C251B6-175C-42AF-AB05-283171EF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793089-CA8C-40A9-AA75-55029F6C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C24668-A0EF-49F9-9973-BE26E50A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437674-1942-47CB-92B1-3C9C4EF6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8393A-FFF2-4C7E-AC4F-C7F021F5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BCAC6-184B-4D0E-BDCB-EE8C264D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E06EC-342B-4876-8B16-C92E238D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F225-9928-44F5-8A1C-53D22CE2A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5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0FC8-D85C-4E9C-A87B-8827F1868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1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AB8B-6985-4BDE-8C22-58B602418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7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7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7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8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2A8F-E6B6-4BD9-8B6E-C26343BB38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33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33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33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4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B35E-7254-4A81-93DE-5270829BF0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0197-50E3-4510-8B64-3033529828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9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9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4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4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dt" idx="4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ftr" idx="4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3775-CDB9-4AB2-AED3-8443494E47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D072-1EC4-4BC1-903C-71ED3AC31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27A3-30EE-4239-B4C9-1BB28EB3C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F6B8-F6DC-4EA9-8D67-ED10071634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4CC9-08E7-4822-A0CE-7E88647E76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4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4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6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20D7-027B-4108-8642-A3F040B44B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4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4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5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1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755A-4C83-4496-8B92-A27754E2918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3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1B0E-F747-4DA8-BF65-130DA90F44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9CBD-3D2F-4766-84BA-C2069B67FF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 Mansi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Arial"/>
              </a:rPr>
              <a:t>ó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David Celat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1" name="" descr=""/>
          <p:cNvPicPr/>
          <p:nvPr/>
        </p:nvPicPr>
        <p:blipFill>
          <a:blip r:embed="rId1"/>
          <a:stretch/>
        </p:blipFill>
        <p:spPr>
          <a:xfrm>
            <a:off x="609480" y="2516040"/>
            <a:ext cx="7848720" cy="3899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s un jar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Arial"/>
              </a:rPr>
              <a:t>í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. Es grande y magn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Arial"/>
              </a:rPr>
              <a:t>í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c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533520" y="1397160"/>
            <a:ext cx="8076960" cy="5284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s una mansi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  <a:ea typeface="Arial"/>
              </a:rPr>
              <a:t>ó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n. Es muy grande y moderna.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7848720" cy="3899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s una cocina. Es estupenda y fabulos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696080" cy="5133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s una sala. Es bella y lujosa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924680" cy="5280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6" dur="2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un b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. Es pequ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y nuev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267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 un cuarto. Es lujoso y estupendo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6" name="" descr=""/>
          <p:cNvPicPr/>
          <p:nvPr/>
        </p:nvPicPr>
        <p:blipFill>
          <a:blip r:embed="rId1"/>
          <a:stretch/>
        </p:blipFill>
        <p:spPr>
          <a:xfrm>
            <a:off x="228600" y="146196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s un comedor. Es magnífico y increíble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8" name="" descr=""/>
          <p:cNvPicPr/>
          <p:nvPr/>
        </p:nvPicPr>
        <p:blipFill>
          <a:blip r:embed="rId1"/>
          <a:stretch/>
        </p:blipFill>
        <p:spPr>
          <a:xfrm>
            <a:off x="1295280" y="1627200"/>
            <a:ext cx="624852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s un patio. Es impresionante y asombroso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609480" y="142884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 un garaje. Es moderno y grande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68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68" fill="hold"/>
                                        <p:tgtEl>
                                          <p:spTgt spid="15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68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68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2:56Z</dcterms:created>
  <dc:creator>celatkadav</dc:creator>
  <dc:description/>
  <dc:language>en-US</dc:language>
  <cp:lastModifiedBy>celatkadav</cp:lastModifiedBy>
  <dcterms:modified xsi:type="dcterms:W3CDTF">2013-04-04T15:36:47Z</dcterms:modified>
  <cp:revision>5</cp:revision>
  <dc:subject/>
  <dc:title>La Mansion</dc:title>
</cp:coreProperties>
</file>